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280D-523E-4E73-9DEF-629CA3482679}" type="datetime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9586-438A-40CA-9BAF-5EEC0A32A86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vement from geocentric to heliocentric universe.  Which is more accurate?  How do 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E36D-BBFE-4E19-8C74-A837306B5BB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47B-F95F-4032-A592-8E43E300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512-4C0D-4F04-B1CF-2236FF5E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1E4-32C1-4E99-8F67-5D47893E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A0CF-0C76-4702-A45C-9A535A63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65C5-EF92-4E35-8042-256532E4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56F-4F7F-4654-8136-2E0D3BEA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B3F-6775-4B78-999B-E1F63185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8BD-DD7C-4429-BC43-F367A06B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0BE-9FB2-462D-AC24-F0221C14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4810-0A29-4F8D-94A4-2E85A58D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8608-C1A5-4361-9D70-AC4CA376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1C3-9944-4B63-BF1B-B66BB067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5BF6-2C3B-4D57-A95A-81E1E3E98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828800" y="304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CIENTIFIC REVOLU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opernicus"/>
          <p:cNvPicPr/>
          <p:nvPr/>
        </p:nvPicPr>
        <p:blipFill>
          <a:blip r:embed="rId1"/>
          <a:stretch/>
        </p:blipFill>
        <p:spPr>
          <a:xfrm>
            <a:off x="1752480" y="1066680"/>
            <a:ext cx="61722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828800" y="457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CIENTIFIC REVOLU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80880" y="1447920"/>
            <a:ext cx="396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LITICAL THOUGH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3520" y="19810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OHN LOCK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632-1704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914400" y="25909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ABULA RAS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humans born with blank slat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14400" y="342900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overnment &amp; public enter contrac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7" descr="locke"/>
          <p:cNvPicPr/>
          <p:nvPr/>
        </p:nvPicPr>
        <p:blipFill>
          <a:blip r:embed="rId1"/>
          <a:stretch/>
        </p:blipFill>
        <p:spPr>
          <a:xfrm>
            <a:off x="4691160" y="1752480"/>
            <a:ext cx="4375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828800" y="3808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CIENTIFIC REVOLU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33520" y="1371600"/>
            <a:ext cx="57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CREATION OF A NEW WORLDVIEW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33520" y="1981080"/>
            <a:ext cx="3962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Questioning of old knowledge &amp; assumption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3520" y="2971800"/>
            <a:ext cx="441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Gradua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replacement of religious &amp; superstition presumption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33520" y="41911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Gradua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rise of science &amp; reaso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17thCUniverse"/>
          <p:cNvPicPr/>
          <p:nvPr/>
        </p:nvPicPr>
        <p:blipFill>
          <a:blip r:embed="rId1"/>
          <a:stretch/>
        </p:blipFill>
        <p:spPr>
          <a:xfrm>
            <a:off x="5280120" y="1905120"/>
            <a:ext cx="3711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828800" y="457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CIENTIFIC REVOLU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457200" y="1371600"/>
            <a:ext cx="739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NEW DIRECTIONS IN ASTRONOMY &amp; PHYSIC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33520" y="1981080"/>
            <a:ext cx="43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TOLEM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Geocentricism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3520" y="266688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NICOLAUS COPERNICU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1473-1543): Heliocentrisim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33520" y="358128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YCHO BRAH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546-1601): More accurate position of planets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33520" y="441972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OHANNES KEPL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1571-1630): Elliptical planetary movemen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8" descr="ptolemy"/>
          <p:cNvPicPr/>
          <p:nvPr/>
        </p:nvPicPr>
        <p:blipFill>
          <a:blip r:embed="rId1"/>
          <a:stretch/>
        </p:blipFill>
        <p:spPr>
          <a:xfrm>
            <a:off x="4800600" y="1981080"/>
            <a:ext cx="4343400" cy="394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copernicustwo"/>
          <p:cNvPicPr/>
          <p:nvPr/>
        </p:nvPicPr>
        <p:blipFill>
          <a:blip r:embed="rId2"/>
          <a:stretch/>
        </p:blipFill>
        <p:spPr>
          <a:xfrm>
            <a:off x="4727520" y="1905120"/>
            <a:ext cx="4416480" cy="4724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brahe"/>
          <p:cNvPicPr/>
          <p:nvPr/>
        </p:nvPicPr>
        <p:blipFill>
          <a:blip r:embed="rId3"/>
          <a:stretch/>
        </p:blipFill>
        <p:spPr>
          <a:xfrm>
            <a:off x="4952880" y="1905120"/>
            <a:ext cx="3880080" cy="4952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kepler"/>
          <p:cNvPicPr/>
          <p:nvPr/>
        </p:nvPicPr>
        <p:blipFill>
          <a:blip r:embed="rId4"/>
          <a:stretch/>
        </p:blipFill>
        <p:spPr>
          <a:xfrm>
            <a:off x="4952880" y="1828800"/>
            <a:ext cx="3940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828800" y="457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CIENTIFIC REVOLU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09480" y="1371600"/>
            <a:ext cx="739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NEW DIRECTIONS IN ASTRONOMY &amp; PHYSIC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838080" y="1981080"/>
            <a:ext cx="3581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ALILEO GALILE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564-1642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219320" y="281952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structed first telescop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219320" y="365760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scribed motion of bodies on earth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0" descr="Galileotelescope"/>
          <p:cNvPicPr/>
          <p:nvPr/>
        </p:nvPicPr>
        <p:blipFill>
          <a:blip r:embed="rId1"/>
          <a:stretch/>
        </p:blipFill>
        <p:spPr>
          <a:xfrm>
            <a:off x="4419720" y="1752480"/>
            <a:ext cx="4344840" cy="4953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anipisa"/>
          <p:cNvPicPr/>
          <p:nvPr/>
        </p:nvPicPr>
        <p:blipFill>
          <a:blip r:embed="rId2"/>
          <a:stretch/>
        </p:blipFill>
        <p:spPr>
          <a:xfrm>
            <a:off x="4343400" y="1828800"/>
            <a:ext cx="3097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828800" y="457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CIENTIFIC REVOLU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80880" y="1371600"/>
            <a:ext cx="739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NEW DIRECTIONS IN ASTRONOMY &amp; PHYSIC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57200" y="20574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AAC NEW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642-1727)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38080" y="259092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Universal Gravitati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combined laws of planetary &amp; earth motio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38080" y="350532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umerous practical application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9" descr="sirisaacnewton"/>
          <p:cNvPicPr/>
          <p:nvPr/>
        </p:nvPicPr>
        <p:blipFill>
          <a:blip r:embed="rId1"/>
          <a:stretch/>
        </p:blipFill>
        <p:spPr>
          <a:xfrm>
            <a:off x="5105520" y="1828800"/>
            <a:ext cx="3933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828800" y="457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CIENTIFIC REVOLU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80880" y="1371600"/>
            <a:ext cx="739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DISCOVERIES IN OTHER SCIENCE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80880" y="1981080"/>
            <a:ext cx="4419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otan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ew medical applications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80880" y="2895480"/>
            <a:ext cx="3810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Anatom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better understand of how human body worked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85800" y="4114800"/>
            <a:ext cx="358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icroscope invented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dissection"/>
          <p:cNvPicPr/>
          <p:nvPr/>
        </p:nvPicPr>
        <p:blipFill>
          <a:blip r:embed="rId1"/>
          <a:stretch/>
        </p:blipFill>
        <p:spPr>
          <a:xfrm>
            <a:off x="3657600" y="1981080"/>
            <a:ext cx="56894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828800" y="457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CIENTIFIC REVOLU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80880" y="1447920"/>
            <a:ext cx="42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ILOSOPHICAL THOUGH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3520" y="1981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RANCIS BAC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561-1626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914400" y="259092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Inductive reasonin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working from particular to general conclusion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914400" y="380988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mpiricism &amp; scientific method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8" descr="bacon"/>
          <p:cNvPicPr/>
          <p:nvPr/>
        </p:nvPicPr>
        <p:blipFill>
          <a:blip r:embed="rId1"/>
          <a:stretch/>
        </p:blipFill>
        <p:spPr>
          <a:xfrm>
            <a:off x="4873680" y="1600200"/>
            <a:ext cx="4159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828800" y="457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CIENTIFIC REVOLU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80880" y="1371600"/>
            <a:ext cx="449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ILOSOPHICAL THOUGH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80880" y="19051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É DESCARTE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596-1650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62120" y="2438280"/>
            <a:ext cx="441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Geometr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any algebraic formula could be plotted as curve in spac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762120" y="4495680"/>
            <a:ext cx="464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Cartesian Dualis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division of reality into “thinking substance” &amp; “extended substance”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9" descr="Descartes-rene"/>
          <p:cNvPicPr/>
          <p:nvPr/>
        </p:nvPicPr>
        <p:blipFill>
          <a:blip r:embed="rId1"/>
          <a:stretch/>
        </p:blipFill>
        <p:spPr>
          <a:xfrm>
            <a:off x="5105520" y="1752480"/>
            <a:ext cx="4038480" cy="3743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"/>
          <p:cNvSpPr/>
          <p:nvPr/>
        </p:nvSpPr>
        <p:spPr>
          <a:xfrm>
            <a:off x="762120" y="3352680"/>
            <a:ext cx="441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Deductive Reasonin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starting with general assumptions &amp; working downward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828800" y="457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CIENTIFIC REVOLU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0880" y="144792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LITICAL THOUGH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33520" y="19051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OMAS HOBBE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588-1679)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14400" y="25146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egative, mechanistic view of human natur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914400" y="335268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rong sovereign necessary to control conflicting desire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0" descr="hobbes2"/>
          <p:cNvPicPr/>
          <p:nvPr/>
        </p:nvPicPr>
        <p:blipFill>
          <a:blip r:embed="rId1"/>
          <a:stretch/>
        </p:blipFill>
        <p:spPr>
          <a:xfrm>
            <a:off x="4890960" y="1676520"/>
            <a:ext cx="4253040" cy="4647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leviathan"/>
          <p:cNvPicPr/>
          <p:nvPr/>
        </p:nvPicPr>
        <p:blipFill>
          <a:blip r:embed="rId2"/>
          <a:stretch/>
        </p:blipFill>
        <p:spPr>
          <a:xfrm>
            <a:off x="5086440" y="990720"/>
            <a:ext cx="3662280" cy="5867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2"/>
          <p:cNvSpPr/>
          <p:nvPr/>
        </p:nvSpPr>
        <p:spPr>
          <a:xfrm>
            <a:off x="2743200" y="5410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bbe’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eviatha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00:53:25Z</dcterms:created>
  <dc:creator>Joe Programmer</dc:creator>
  <dc:description/>
  <dc:language>en-US</dc:language>
  <cp:lastModifiedBy>MacAdmin Kis</cp:lastModifiedBy>
  <dcterms:modified xsi:type="dcterms:W3CDTF">2008-09-02T08:14:16Z</dcterms:modified>
  <cp:revision>11</cp:revision>
  <dc:subject/>
  <dc:title>PowerPoint Presentation</dc:title>
</cp:coreProperties>
</file>